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041480" y="71712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90770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90770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80F5-371C-4E15-83E3-CAA97CC38D0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grpSp>
        <p:nvGrpSpPr>
          <p:cNvPr id="358" name=""/>
          <p:cNvGrpSpPr/>
          <p:nvPr/>
        </p:nvGrpSpPr>
        <p:grpSpPr>
          <a:xfrm>
            <a:off x="907920" y="4854600"/>
            <a:ext cx="5029200" cy="4362120"/>
            <a:chOff x="907920" y="4854600"/>
            <a:chExt cx="5029200" cy="4362120"/>
          </a:xfrm>
        </p:grpSpPr>
        <p:grpSp>
          <p:nvGrpSpPr>
            <p:cNvPr id="359" name=""/>
            <p:cNvGrpSpPr/>
            <p:nvPr/>
          </p:nvGrpSpPr>
          <p:grpSpPr>
            <a:xfrm>
              <a:off x="907920" y="4854600"/>
              <a:ext cx="5029200" cy="3836520"/>
              <a:chOff x="907920" y="4854600"/>
              <a:chExt cx="5029200" cy="3836520"/>
            </a:xfrm>
          </p:grpSpPr>
          <p:sp>
            <p:nvSpPr>
              <p:cNvPr id="360" name=""/>
              <p:cNvSpPr/>
              <p:nvPr/>
            </p:nvSpPr>
            <p:spPr>
              <a:xfrm>
                <a:off x="907920" y="485460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907920" y="520272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907920" y="555120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907920" y="589968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907920" y="624924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907920" y="659772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907920" y="694620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907920" y="729432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907920" y="764460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07920" y="799308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07920" y="834156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907920" y="869112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907920" y="8978040"/>
              <a:ext cx="5029200" cy="2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37"/>
                </a:spcBef>
                <a:tabLst>
                  <a:tab algn="l" pos="0"/>
                  <a:tab algn="l" pos="318960"/>
                  <a:tab algn="l" pos="638280"/>
                  <a:tab algn="l" pos="957240"/>
                  <a:tab algn="l" pos="1276200"/>
                  <a:tab algn="l" pos="1595520"/>
                  <a:tab algn="l" pos="1914480"/>
                  <a:tab algn="l" pos="2233440"/>
                  <a:tab algn="l" pos="2552760"/>
                  <a:tab algn="l" pos="2871720"/>
                  <a:tab algn="l" pos="3191040"/>
                  <a:tab algn="l" pos="3510000"/>
                  <a:tab algn="l" pos="3828960"/>
                  <a:tab algn="l" pos="4148280"/>
                  <a:tab algn="l" pos="4467240"/>
                  <a:tab algn="l" pos="4786200"/>
                  <a:tab algn="l" pos="5105520"/>
                  <a:tab algn="l" pos="5424480"/>
                  <a:tab algn="l" pos="5743440"/>
                  <a:tab algn="l" pos="6062760"/>
                  <a:tab algn="l" pos="638172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IRRE – 5 Settembre 2002</a:t>
              </a: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ello EFQM per gli Istituti formativi</a:t>
              </a: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Campatelli G.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1743-7865-4434-BEAC-941C8C33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A306-EAE7-4F2A-829C-D9972AFE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1DFC-75C1-4077-9FDB-6E38B936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BFF-A281-4BB9-AE71-AC54E44D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E7EE-048B-4A15-9884-0D3EFFA8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EE5E-4815-4CBD-A432-B4572160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E4D6-932F-44EC-A5BC-2C10219B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2E7D-5D78-471C-ACE9-EFB407EF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3546-4CDC-47D4-A022-A94F9C89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3D2D-FDA6-4C4B-96C6-4C4E1090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EA3D-88F8-4CAF-BB14-D3725BD0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4F5-7D82-4FC4-9506-A6B6F808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6031-E393-40B7-A612-47179D5C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66BC-D7B5-4FE2-A0A2-EBE2C2CF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8BD3-35CB-4FEA-AF9D-A1AF471E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50FE-BB01-4A33-962A-7F1D26FE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3A66-7585-4170-A538-35D48845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59B4-97DB-457C-A05A-1CC4EE00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21C0-D74C-4881-B12D-C4AFC096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1977-DED3-46A5-8B2C-5B32592D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EACA-8A0B-49B5-B41B-C8F827FA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287-E1E5-4203-A673-A29B1CE8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5FA-7E82-40A8-89B1-D06A82F5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983-C744-4C61-B211-300F2760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E0A5-9283-4A05-803C-5F1B8AAFA3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EFE8-91B7-4671-BE17-D9050FA653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10920" y="2492280"/>
            <a:ext cx="784836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Relazione  della Fase 3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Definizione di macroindicatori di qualità dell’insegnamento secondo il modello EFQ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189000"/>
            <a:ext cx="68562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RAMMA “LEONARDO DA VINCI”</a:t>
            </a: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O “DI.SCOL.A” Prog. n. I/05/B/F/PP-154000 </a:t>
            </a:r>
            <a:br>
              <a:rPr sz="1400"/>
            </a:b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“Dispersione Scolastica Addio-La professionalità docente per garantire il successo scolastico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11280" y="250920"/>
            <a:ext cx="906480" cy="745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467480" y="189000"/>
            <a:ext cx="1554120" cy="627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11280" y="250920"/>
            <a:ext cx="906480" cy="745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611280" y="250920"/>
            <a:ext cx="906480" cy="745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11280" y="189000"/>
            <a:ext cx="61722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611280" y="250920"/>
            <a:ext cx="906480" cy="745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611280" y="250920"/>
            <a:ext cx="906480" cy="745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611280" y="250920"/>
            <a:ext cx="906480" cy="74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014480" y="1714680"/>
            <a:ext cx="7129440" cy="154116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ff99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2388" dir="19816807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000099"/>
                </a:solidFill>
                <a:latin typeface="Arial"/>
              </a:rPr>
              <a:t>Progetto DI.SCOL.A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8"/>
          <a:srcRect l="50003" t="39001" r="18750" b="46937"/>
          <a:stretch/>
        </p:blipFill>
        <p:spPr>
          <a:xfrm>
            <a:off x="3564000" y="0"/>
            <a:ext cx="1152360" cy="690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1014480" y="5773680"/>
            <a:ext cx="6942240" cy="43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76EE-EB69-49FA-9B42-C60B66D75D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ttembr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me i lea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finiscono la mission e la vision della attività di formazi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teragiscono con i clienti e gli stakeholder per definire e condurre le attività di formazi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estiscono il persona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movono il cambiamento e l’eccellenza nell’organizzazi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4000" y="1362240"/>
            <a:ext cx="8569080" cy="127476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ff99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2388" dir="19816807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croIndicatore –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Criterio 1 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                                Leadershi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46160" y="258840"/>
            <a:ext cx="68407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RAMMA “LEONARDO DA VINCI” </a:t>
            </a: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O “DI.SCOL.A” Prog. n. I/05/B/F/PP-154000  </a:t>
            </a:r>
            <a:br>
              <a:rPr sz="1400"/>
            </a:b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“Dispersione Scolastica Addio-La professionalità docente per garantire il successo scolastico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145280" y="36360"/>
            <a:ext cx="1386000" cy="5590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900000" y="42840"/>
            <a:ext cx="722520" cy="595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rcRect l="50003" t="39001" r="18750" b="46937"/>
          <a:stretch/>
        </p:blipFill>
        <p:spPr>
          <a:xfrm>
            <a:off x="3564000" y="0"/>
            <a:ext cx="936720" cy="5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E173-F2A5-4351-9FEC-110DDAFCC658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ttembr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23640" y="3068640"/>
            <a:ext cx="85071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l’organizzaz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ccoglie e analizza informazioni sulle competenze professionali dei docenti  e sulle esigenze degli alliev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rocia i risultati delle indagini conoscitive con le esigenze di formazione e le richieste social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involge il personale nella definizione dei piani e degli obiettiv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46160" y="595440"/>
            <a:ext cx="684072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RAMMA “LEONARDO DA VINCI” </a:t>
            </a: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O “DI.SCOL.A” Prog. n. I/05/B/F/PP-154000  </a:t>
            </a:r>
            <a:br>
              <a:rPr sz="1400"/>
            </a:b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“Dispersione Scolastica Addio-La professionalità docente per garantire il successo scolastico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7145280" y="36360"/>
            <a:ext cx="1386000" cy="55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684360" y="36360"/>
            <a:ext cx="722160" cy="595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24000" y="1484280"/>
            <a:ext cx="8569080" cy="134640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ff99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2388" dir="19816807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croIndicatore –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Criterio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                 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                   Politiche e strategi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rcRect l="50003" t="39001" r="18750" b="46937"/>
          <a:stretch/>
        </p:blipFill>
        <p:spPr>
          <a:xfrm>
            <a:off x="3564000" y="0"/>
            <a:ext cx="1152360" cy="69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0A3A-6BF9-4DCE-8C47-0772CF213A7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ttembr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68436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l’organizzaz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stisce e pianifica le risorse um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involge il personale nella elaborazione dei pi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 e classifica le competenze e e le conoscenze del person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involge il personale nelle attivit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e incentiva e premia il person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4520" y="1436760"/>
            <a:ext cx="8569440" cy="134604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ff99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2388" dir="19816807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croIndicatore –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Criterio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 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                            Person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46160" y="333360"/>
            <a:ext cx="68407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RAMMA “LEONARDO DA VINCI” </a:t>
            </a: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O “DI.SCOL.A” Prog. n. I/05/B/F/PP-154000  </a:t>
            </a:r>
            <a:br>
              <a:rPr sz="1400"/>
            </a:b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“Dispersione Scolastica Addio-La professionalità docente per garantire il successo scolastico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145280" y="36360"/>
            <a:ext cx="1386000" cy="559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900000" y="42840"/>
            <a:ext cx="722520" cy="5954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rcRect l="50003" t="39001" r="18750" b="46937"/>
          <a:stretch/>
        </p:blipFill>
        <p:spPr>
          <a:xfrm>
            <a:off x="3564000" y="0"/>
            <a:ext cx="1008000" cy="60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9CF7-9E19-4ECB-889A-553BE48AA5A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ttembr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900000" y="3068280"/>
            <a:ext cx="7715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 l’organizz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erca e gestisce le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stisce le risorse finanzia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stisce la tecnologia, le attrezzature e le risorse materi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1640" y="1722600"/>
            <a:ext cx="8569440" cy="134604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ff99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2388" dir="19816807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croIndicatore – Criterio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4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Partnership e risorse</a:t>
            </a:r>
            <a:r>
              <a:rPr b="0" i="1" lang="en-US" sz="4400" spc="-1" strike="noStrike">
                <a:solidFill>
                  <a:srgbClr val="ce7b00"/>
                </a:solidFill>
                <a:latin typeface="Arial"/>
              </a:rPr>
              <a:t>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46160" y="595440"/>
            <a:ext cx="684072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RAMMA “LEONARDO DA VINCI” </a:t>
            </a: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O “DI.SCOL.A” Prog. n. I/05/B/F/PP-154000  </a:t>
            </a:r>
            <a:br>
              <a:rPr sz="1400"/>
            </a:b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“Dispersione Scolastica Addio-La professionalità docente per garantire il successo scolastico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7145280" y="36360"/>
            <a:ext cx="1386000" cy="5590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900000" y="42840"/>
            <a:ext cx="722520" cy="5954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rcRect l="50003" t="39001" r="18750" b="46937"/>
          <a:stretch/>
        </p:blipFill>
        <p:spPr>
          <a:xfrm>
            <a:off x="3564000" y="0"/>
            <a:ext cx="1152360" cy="69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EB92-E8B3-424B-8CFB-4CA556DE0B9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ttembr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306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l’organizzaz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etta l’erogazione delle attività di formazi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ca, pianifica e tiene sotto controllo i processi di progettazione, erogazione e verifica delle attivit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oga i servizi in base alle esigenze dei cli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i rapporti con i propri cli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2320" y="1722600"/>
            <a:ext cx="7839360" cy="134604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ff99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2388" dir="19816807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croIndicatore – Criterio 5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Process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46160" y="404640"/>
            <a:ext cx="68407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RAMMA “LEONARDO DA VINCI” </a:t>
            </a: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O “DI.SCOL.A” Prog. n. I/05/B/F/PP-154000  </a:t>
            </a:r>
            <a:br>
              <a:rPr sz="1400"/>
            </a:b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“Dispersione Scolastica Addio-La professionalità docente per garantire il successo scolastico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145280" y="36360"/>
            <a:ext cx="1386000" cy="5590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900000" y="42840"/>
            <a:ext cx="722520" cy="5954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rcRect l="50003" t="39001" r="18750" b="46937"/>
          <a:stretch/>
        </p:blipFill>
        <p:spPr>
          <a:xfrm>
            <a:off x="3564000" y="0"/>
            <a:ext cx="1008000" cy="60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B910-1C9A-4C83-9498-9669DAABAFF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ttembr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ezzamento delle attivit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tazione delle competenze acqui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ma e rapporti formatori – allie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zione delle metodologie appr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aduta nella attività didat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900000" y="42840"/>
            <a:ext cx="722520" cy="5954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01680" y="1557360"/>
            <a:ext cx="8229600" cy="134604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ff99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2388" dir="19816807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croIndicatore – Criterio 6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Risultati relativi agli studen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7145280" y="36360"/>
            <a:ext cx="1386000" cy="5590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046160" y="593640"/>
            <a:ext cx="68407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RAMMA “LEONARDO DA VINCI” </a:t>
            </a: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O “DI.SCOL.A” Prog. n. I/05/B/F/PP-154000  </a:t>
            </a:r>
            <a:br>
              <a:rPr sz="1400"/>
            </a:b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“Dispersione Scolastica Addio-La professionalità docente per garantire il successo scolastico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rcRect l="50003" t="39001" r="18750" b="46937"/>
          <a:stretch/>
        </p:blipFill>
        <p:spPr>
          <a:xfrm>
            <a:off x="3564000" y="0"/>
            <a:ext cx="1152360" cy="69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D1FE-5692-4D74-A584-BB8ACC4D495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ttembr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01680" y="342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tivaz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ddisfaz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rvizi eroga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46160" y="593640"/>
            <a:ext cx="68407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RAMMA “LEONARDO DA VINCI” </a:t>
            </a: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O “DI.SCOL.A” Prog. n. I/05/B/F/PP-154000  </a:t>
            </a:r>
            <a:br>
              <a:rPr sz="1400"/>
            </a:b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“Dispersione Scolastica Addio-La professionalità docente per garantire il successo scolastico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145280" y="36360"/>
            <a:ext cx="1386000" cy="5590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900000" y="42840"/>
            <a:ext cx="722520" cy="5954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819440"/>
            <a:ext cx="8229600" cy="134604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ff99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2388" dir="19816807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croIndicatore – Criterio 7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Risultati relativi ai docen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rcRect l="50003" t="39001" r="18750" b="46937"/>
          <a:stretch/>
        </p:blipFill>
        <p:spPr>
          <a:xfrm>
            <a:off x="3564000" y="0"/>
            <a:ext cx="1152360" cy="69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993-D06D-4F58-A2A6-8FC3CD79F7E9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ttembr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720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onoscimen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zione all’ambiente e alla sa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" y="1986120"/>
            <a:ext cx="8229600" cy="134604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ff99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2388" dir="19816807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MacoIndicatore – Criterio 8 </a:t>
            </a:r>
            <a:br>
              <a:rPr sz="4400"/>
            </a:b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i="1" lang="it-IT" sz="4400" spc="-1" strike="noStrike">
                <a:solidFill>
                  <a:srgbClr val="ff0000"/>
                </a:solidFill>
                <a:latin typeface="Arial"/>
              </a:rPr>
              <a:t>Risultati relativi alla societ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00000" y="595440"/>
            <a:ext cx="684072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RAMMA “LEONARDO DA VINCI” </a:t>
            </a: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O “DI.SCOL.A” Prog. n. I/05/B/F/PP-154000  </a:t>
            </a:r>
            <a:br>
              <a:rPr sz="1400"/>
            </a:b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“Dispersione Scolastica Addio-La professionalità docente per garantire il successo scolastico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7145280" y="36360"/>
            <a:ext cx="1386000" cy="5590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900000" y="42840"/>
            <a:ext cx="722520" cy="5954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rcRect l="50003" t="39001" r="18750" b="46937"/>
          <a:stretch/>
        </p:blipFill>
        <p:spPr>
          <a:xfrm>
            <a:off x="3564000" y="0"/>
            <a:ext cx="1152360" cy="69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7A2D-520E-4B92-AFED-8E7EA8B88A6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ttembr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sto di formazione pro cap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icaduta didat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minuzione del drop –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cremento degli iscrit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dice di prosecuzione degli stu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ilevazione dell’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estione dei rapporti interpersonali tra do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estione dei rapporti interpersonali tra docenti e allie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so delle tecnolog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413000"/>
            <a:ext cx="8229600" cy="134604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ff99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2388" dir="19816807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MacroIndicatore – Criterio 9</a:t>
            </a:r>
            <a:br>
              <a:rPr sz="4400"/>
            </a:b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it-IT" sz="4400" spc="-1" strike="noStrike">
                <a:solidFill>
                  <a:srgbClr val="ff0000"/>
                </a:solidFill>
                <a:latin typeface="Arial"/>
              </a:rPr>
              <a:t>Risultati chiave di performa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46160" y="309600"/>
            <a:ext cx="68407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RAMMA “LEONARDO DA VINCI” </a:t>
            </a: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O “DI.SCOL.A” Prog. n. I/05/B/F/PP-154000  </a:t>
            </a:r>
            <a:br>
              <a:rPr sz="1400"/>
            </a:b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“Dispersione Scolastica Addio-La professionalità docente per garantire il successo scolastico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7145280" y="36360"/>
            <a:ext cx="1386000" cy="5590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900000" y="42840"/>
            <a:ext cx="722520" cy="5954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rcRect l="50003" t="39001" r="18750" b="46937"/>
          <a:stretch/>
        </p:blipFill>
        <p:spPr>
          <a:xfrm>
            <a:off x="3564000" y="0"/>
            <a:ext cx="936720" cy="5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4F9-B039-4C42-AF02-2E04B0C4B1A3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ttembr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9640" y="2708280"/>
            <a:ext cx="849816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Le Scuole eccellenti gestiscono, sviluppano e consentono la manifestazione del pieno potenziale del proprio personale a livello individuale, di gruppo e di organizzazione nel suo complesso. Promuovono la correttezza delle condizioni di impiego  e le pari opportunità, coinvolgono e responsabilizzano il personale. Se ne prendono cura, comunicano, premiano e distribuiscono riconoscimenti con modalità volte a motivare il personale e a stimolarne l’impegno ad avvalersi delle proprie competenze e conoscenze a vantaggio della scuol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900000" y="42840"/>
            <a:ext cx="722520" cy="5954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7145280" y="36360"/>
            <a:ext cx="1386000" cy="5590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046160" y="258840"/>
            <a:ext cx="68407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RAMMA “LEONARDO DA VINCI” </a:t>
            </a: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O “DI.SCOL.A” Prog. n. I/05/B/F/PP-154000  </a:t>
            </a:r>
            <a:br>
              <a:rPr sz="1400"/>
            </a:b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“Dispersione Scolastica Addio-La professionalità docente per garantire il successo scolastico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2760" y="1362240"/>
            <a:ext cx="8048520" cy="134604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ff99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2388" dir="19816807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Un esempio: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acroIndicatore  3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ESTIONE DEL PERSONA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rcRect l="50003" t="39001" r="18750" b="46937"/>
          <a:stretch/>
        </p:blipFill>
        <p:spPr>
          <a:xfrm>
            <a:off x="3564000" y="0"/>
            <a:ext cx="936720" cy="56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89E-9C90-430A-9440-8B3D8EB21499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ttembr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rcRect l="0" t="0" r="0" b="24176"/>
          <a:stretch/>
        </p:blipFill>
        <p:spPr>
          <a:xfrm>
            <a:off x="407880" y="2166840"/>
            <a:ext cx="2381400" cy="10764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143520" y="2411280"/>
            <a:ext cx="3650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ww.irre.toscana.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rre.toscana@irre.toscana.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73960" y="4076640"/>
            <a:ext cx="201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ww.efqm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8112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351080" y="3851280"/>
            <a:ext cx="2361960" cy="8920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351080" y="627120"/>
            <a:ext cx="61722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RAMMA “LEONARDO DA VINCI”</a:t>
            </a: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O “DI.SCOL.A” Prog. n. I/05/B/F/PP-154000  </a:t>
            </a:r>
            <a:br>
              <a:rPr sz="1400"/>
            </a:b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“Dispersione Scolastica Addio-La professionalità docente per garantire il successo scolastico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7134120" y="0"/>
            <a:ext cx="1554120" cy="627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692280" y="0"/>
            <a:ext cx="906480" cy="746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rcRect l="50003" t="39001" r="18750" b="46937"/>
          <a:stretch/>
        </p:blipFill>
        <p:spPr>
          <a:xfrm>
            <a:off x="3564000" y="0"/>
            <a:ext cx="1152360" cy="6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32DC-31D6-420F-A450-5A3FA5535147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ttembre 200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95280" y="244152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Sottocriterio 3</a:t>
            </a:r>
            <a:r>
              <a:rPr b="1" i="1" lang="ar-SA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ome vengono pianificate, gestite e sviluppate le risorse uma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Sottocriterio 3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ome vengono identificate, sviluppate e sostenute le conoscenze e le competenze professionali del persona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Sottocriterio 3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ome il personale viene coinvolto e responsabilizzato nel prendere iniziativ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Sottocriterio 3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ome all’interno della scuola si comunica in modo effica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Sottocriterio 3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Come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a scuola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premia, riconosce e dedica attenzione al personal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46160" y="85680"/>
            <a:ext cx="68407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RAMMA “LEONARDO DA VINCI” </a:t>
            </a: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O “DI.SCOL.A” Prog. n. I/05/B/F/PP-154000  </a:t>
            </a:r>
            <a:br>
              <a:rPr sz="1400"/>
            </a:b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“Dispersione Scolastica Addio-La professionalità docente per garantire il successo scolastico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7145280" y="36360"/>
            <a:ext cx="1386000" cy="559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900000" y="42840"/>
            <a:ext cx="722520" cy="5954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11280" y="1189080"/>
            <a:ext cx="7920000" cy="129528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ff99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2388" dir="19816807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acroIndicatore 3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ESTIONE DEL PERSONA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rcRect l="50003" t="39001" r="18750" b="46937"/>
          <a:stretch/>
        </p:blipFill>
        <p:spPr>
          <a:xfrm>
            <a:off x="3564000" y="0"/>
            <a:ext cx="936720" cy="56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AC61-7B43-4C5B-A7A3-6F8B683A742D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ttembr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530280" y="2781360"/>
            <a:ext cx="828972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indent="-27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Le aree da esaminare devono evidenziare, per esempio, come la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ndividua e classifica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le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onoscenze e le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competenz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professionali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del personale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portfoli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o)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e le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rmonizza con le proprie necess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Elabora ed attua piani di formazione e sviluppo, per far sì che il personale sia all’altezza delle esigenze presenti e future della scuo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Sviluppa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, segue e forma il personale a tutti i livelli per aiutarli a comprendere e a realizzare il proprio pieno potenziale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rea, promuove opportunità di apprendimento a livello individuale, di gruppo e della scuola nel suo complesso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viluppa competenze di te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linea gli obiettivi individuali e di gruppo con quelli della scuo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ttua un sistema di valutazione e di riconoscimenti e aiuta le persone a migliorare le proprie prestazio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00000" y="237960"/>
            <a:ext cx="68407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RAMMA “LEONARDO DA VINCI” </a:t>
            </a: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O “DI.SCOL.A” Prog. n. I/05/B/F/PP-154000  </a:t>
            </a:r>
            <a:br>
              <a:rPr sz="1400"/>
            </a:b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“Dispersione Scolastica Addio-La professionalità docente per garantire il successo scolastico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7145280" y="36360"/>
            <a:ext cx="1386000" cy="559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900000" y="42840"/>
            <a:ext cx="722520" cy="5954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50920" y="1341360"/>
            <a:ext cx="8569080" cy="129564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ff99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2388" dir="19816807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SottoMacroIndicatore 3b</a:t>
            </a:r>
            <a:br>
              <a:rPr sz="2400"/>
            </a:b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Come vengono identificate, sviluppate e sostenute le conoscenze e competenze professionali del personale</a:t>
            </a:r>
            <a:r>
              <a:rPr b="1" lang="it-IT" sz="2400" spc="-1" strike="noStrike">
                <a:solidFill>
                  <a:srgbClr val="ce7b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3"/>
          <a:srcRect l="50003" t="39001" r="18750" b="46937"/>
          <a:stretch/>
        </p:blipFill>
        <p:spPr>
          <a:xfrm>
            <a:off x="3564000" y="0"/>
            <a:ext cx="1008000" cy="60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9FD8-A9A9-4903-B00C-C5D21CE655A0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ttembr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04560" y="3068640"/>
            <a:ext cx="784836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l modello EFQM per l’Eccellenza è un quadro di riferimento non prescrittivo che riconosce la pluralità degli approcci al perseguimento di un’eccellenza sostenibile nel tempo....esso offre pertanto una considerevole libertà di interpretazione in funzione delle strategie appropriate a ogni singolo ente del settore pubblico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68280" y="282600"/>
            <a:ext cx="61722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RAMMA “LEONARDO DA VINCI”</a:t>
            </a: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O “DI.SCOL.A” Prog. n. I/05/B/F/PP-154000  </a:t>
            </a:r>
            <a:br>
              <a:rPr sz="1400"/>
            </a:b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“Dispersione Scolastica Addio-La professionalità docente per garantire il successo scolastico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440480" y="63360"/>
            <a:ext cx="1554120" cy="6271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61880" y="131760"/>
            <a:ext cx="906480" cy="746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900000" y="1808280"/>
            <a:ext cx="6829560" cy="126036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ff99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2388" dir="19816807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erché il modello EFQM?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rcRect l="50003" t="39001" r="18750" b="46937"/>
          <a:stretch/>
        </p:blipFill>
        <p:spPr>
          <a:xfrm>
            <a:off x="3564000" y="63360"/>
            <a:ext cx="1152360" cy="6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A3E-D1F4-4D30-9A1E-22DC024C9D3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ttembr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0920" y="306864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n modello interpreta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na metodologia di autovalutaz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no strumento per il   miglioramento continuo delle organizzazio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114480"/>
            <a:ext cx="617220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RAMMA “LEONARDO DA VINCI”</a:t>
            </a: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O “DI.SCOL.A” Prog. n. I/05/B/F/PP-154000  </a:t>
            </a:r>
            <a:br>
              <a:rPr sz="1400"/>
            </a:b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“Dispersione Scolastica Addio-La professionalità docente per garantire il successo scolastico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11280" y="250920"/>
            <a:ext cx="906480" cy="745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7308720" y="250920"/>
            <a:ext cx="1554120" cy="627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84360" y="1808280"/>
            <a:ext cx="7129440" cy="126036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ff99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2388" dir="19816807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sa è il modello EFQ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rcRect l="50003" t="39001" r="18750" b="46937"/>
          <a:stretch/>
        </p:blipFill>
        <p:spPr>
          <a:xfrm>
            <a:off x="3564000" y="0"/>
            <a:ext cx="1152360" cy="69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5A5-71CC-469F-A76E-A0939A1D53F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ttembr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43000" y="2565360"/>
            <a:ext cx="8361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l pianificare le soluzioni l’EFQM propone 8 concetti da segui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entamento ai risult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nzione rivolta al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ership e coerenza negli obietti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stione in termini di processi e fat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involgimento e sviluppo delle pers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Apprendimento, innovazione e miglioramento contin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viluppo della partne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abilità pubb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317520"/>
            <a:ext cx="61722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RAMMA “LEONARDO DA VINCI”</a:t>
            </a: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O “DI.SCOL.A” Prog. n. I/05/B/F/PP-154000  </a:t>
            </a:r>
            <a:br>
              <a:rPr sz="1400"/>
            </a:b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“Dispersione Scolastica Addio-La professionalità docente per garantire il successo scolastico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16600" y="131760"/>
            <a:ext cx="1554120" cy="627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11280" y="131760"/>
            <a:ext cx="906480" cy="746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042920" y="1525680"/>
            <a:ext cx="6829560" cy="103968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ff99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2388" dir="19816807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 concetti dell’Eccellenz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rcRect l="50003" t="39001" r="18750" b="46937"/>
          <a:stretch/>
        </p:blipFill>
        <p:spPr>
          <a:xfrm>
            <a:off x="3564000" y="0"/>
            <a:ext cx="1152360" cy="69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9F0-E582-4C78-A902-FD78B13C576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ttembr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11280" y="2623680"/>
            <a:ext cx="7905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ttori (5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adersh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stione del pers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litiche e 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rtnership e risor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ces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sultati (4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sultati relativi al pers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sultati relativi ai Clien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sultati relativi alla Societ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sultati chiave di perform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 ogni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criteri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esistono dei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sottocrite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 ogni sottocriterio vengono elencate, come esempi delle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aree da esamin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22360" y="317520"/>
            <a:ext cx="61722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RAMMA “LEONARDO DA VINCI”</a:t>
            </a: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O “DI.SCOL.A” Prog. n. I/05/B/F/PP-154000  </a:t>
            </a:r>
            <a:br>
              <a:rPr sz="1400"/>
            </a:b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“Dispersione Scolastica Addio-La professionalità docente per garantire il successo scolastico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962760" y="131760"/>
            <a:ext cx="1554120" cy="6271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11280" y="131760"/>
            <a:ext cx="906480" cy="746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187280" y="1438200"/>
            <a:ext cx="6829560" cy="104004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ff99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2388" dir="19816807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uttura modello - Criter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rcRect l="50003" t="39001" r="18750" b="46937"/>
          <a:stretch/>
        </p:blipFill>
        <p:spPr>
          <a:xfrm>
            <a:off x="3564000" y="0"/>
            <a:ext cx="1152360" cy="69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A0C-2F81-4B74-96EC-F9BBEE44597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ttembr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4208" t="9141" r="0" b="2220"/>
          <a:stretch/>
        </p:blipFill>
        <p:spPr>
          <a:xfrm>
            <a:off x="228600" y="2781360"/>
            <a:ext cx="8591400" cy="3541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28600" y="1173240"/>
            <a:ext cx="73915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1670040"/>
            <a:ext cx="8035920" cy="89532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ff99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2388" dir="19816807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 punti di riferimento: </a:t>
            </a:r>
            <a:r>
              <a:rPr b="1" i="1" lang="en-US" sz="3400" spc="-1" strike="noStrike">
                <a:solidFill>
                  <a:srgbClr val="ff0000"/>
                </a:solidFill>
                <a:latin typeface="Arial"/>
              </a:rPr>
              <a:t>Il modello EFQM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1120" y="257040"/>
            <a:ext cx="74088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RAMMA “LEONARDO DA VINCI” </a:t>
            </a: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O “DI.SCOL.A” Prog. n. I/05/B/F/PP-154000  </a:t>
            </a:r>
            <a:br>
              <a:rPr sz="1400"/>
            </a:b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“Dispersione Scolastica Addio-La professionalità docente per garantire il successo scolastico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7099200" y="131760"/>
            <a:ext cx="1554120" cy="627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681120" y="131760"/>
            <a:ext cx="906480" cy="7462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rcRect l="50003" t="39001" r="18750" b="46937"/>
          <a:stretch/>
        </p:blipFill>
        <p:spPr>
          <a:xfrm>
            <a:off x="3564000" y="0"/>
            <a:ext cx="1152360" cy="6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BB25-BB80-43EF-8D00-B23172D98175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ettembr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60360" y="2109960"/>
            <a:ext cx="662472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esults (risultati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it-IT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pproach (approccio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eployment (diffusion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it-IT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ssessment (valutazion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it-IT" sz="2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eview (riesam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900000" y="4221000"/>
            <a:ext cx="7775640" cy="2232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60360" y="1413000"/>
            <a:ext cx="7883640" cy="89532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ff99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2388" dir="19816807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 punti di riferimento: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La logica RAD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1200" y="189000"/>
            <a:ext cx="68403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RAMMA “LEONARDO DA VINCI” </a:t>
            </a: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O “DI.SCOL.A” Prog. n. I/05/B/F/PP-154000  </a:t>
            </a:r>
            <a:br>
              <a:rPr sz="1400"/>
            </a:b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“Dispersione Scolastica Addio-La professionalità docente per garantire il successo scolastico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313320" y="0"/>
            <a:ext cx="1386000" cy="558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324000" y="0"/>
            <a:ext cx="722160" cy="5954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rcRect l="50003" t="39001" r="18750" b="46937"/>
          <a:stretch/>
        </p:blipFill>
        <p:spPr>
          <a:xfrm>
            <a:off x="3564000" y="0"/>
            <a:ext cx="1008000" cy="60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FB24-6E44-4812-9674-8B900BACE35A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ettembre 20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11200" y="2852640"/>
            <a:ext cx="858852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2880" indent="-27288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’Autovalutazione è il primo passo verso l’Eccellenza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- comprensione della propria posizion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- individuazione delle aree critiche e dei punti di forz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- scelta delle azioni di migliorament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- valutazione del miglioramento nel tempo (Autovalutazione periodica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99280" y="3094200"/>
            <a:ext cx="1454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569960"/>
            <a:ext cx="8588160" cy="101592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ff99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2388" dir="19816807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I punti di riferimento: </a:t>
            </a:r>
            <a:r>
              <a:rPr b="1" i="1" lang="it-IT" sz="3600" spc="-1" strike="noStrike">
                <a:solidFill>
                  <a:srgbClr val="ff0000"/>
                </a:solidFill>
                <a:latin typeface="Arial"/>
              </a:rPr>
              <a:t>L’autovalutazi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55520" y="466560"/>
            <a:ext cx="68407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RAMMA “LEONARDO DA VINCI” </a:t>
            </a: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O “DI.SCOL.A” Prog. n. I/05/B/F/PP-154000  </a:t>
            </a:r>
            <a:br>
              <a:rPr sz="1400"/>
            </a:b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“Dispersione Scolastica Addio-La professionalità docente per garantire il successo scolastico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507440" y="260280"/>
            <a:ext cx="1385640" cy="5587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11200" y="260280"/>
            <a:ext cx="722160" cy="5954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rcRect l="50003" t="39001" r="18750" b="46937"/>
          <a:stretch/>
        </p:blipFill>
        <p:spPr>
          <a:xfrm>
            <a:off x="3564000" y="0"/>
            <a:ext cx="1152360" cy="6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0458-DA0B-4A59-968A-77E7551F2D54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ettembre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1T13:50:03Z</dcterms:created>
  <dc:creator/>
  <dc:description/>
  <dc:language>en-US</dc:language>
  <cp:lastModifiedBy>a</cp:lastModifiedBy>
  <cp:lastPrinted>2001-05-23T08:36:32Z</cp:lastPrinted>
  <dcterms:modified xsi:type="dcterms:W3CDTF">2006-11-29T12:51:50Z</dcterms:modified>
  <cp:revision>81</cp:revision>
  <dc:subject/>
  <dc:title>Nessun titolo diapositiva</dc:title>
</cp:coreProperties>
</file>